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2A9-0875-4BA3-A8CC-3FF29484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6FA-2FF1-4AAE-9372-8EF51A73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036-DB15-407F-B5D3-B6EC04D7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BFD-2653-4EA7-8413-70A9F6CA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3728-B62E-4E4F-A2BB-DC5DB0CE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3B318-E652-48B6-B9D2-68056B0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1921B-6875-4E81-A75F-817C2BE3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AC9A5-01B5-447B-A883-CF33F7F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6B78D-5F6E-4C4B-8162-44E88A86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C82E-BCD1-4A58-B32A-4A87FE64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A6828-BDBB-43CC-ADD0-F7307E77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C92-D167-4DD1-884F-7573A817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3E36-9DC8-40A7-8700-F9872DA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C76AD-8900-4343-839C-D36BA32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98B0B-439D-4E07-8ED5-A6794791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0032D-6282-42A5-87C7-659054613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DA862-BACE-4861-9E09-02E5C76D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327-4C4A-42C2-968C-A6A200C2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50B-9104-4B33-B324-E308371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052-F89F-4A5E-8D0D-3008CE64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120-2496-4F4C-B98A-66E948A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B61-1867-45E4-8971-7E24A78B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1F0-4AA7-453D-BEFC-47984396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353-C938-4EC8-BE0B-A25E8B72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271-2060-4ED3-B4D5-6DFA9AD5D7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6920-7126-4E5E-B0A7-F9E663D86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chitect"/>
              </a:rPr>
              <a:t>Short Story Terms and Not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dness contin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Tone / M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overall feeling created at the beginning of the story.  This is a VERY important part of the Short Story, because it sets up the entire piece of writing.  Mood could be scary, happy, suspenseful…whatever the writer wants to cre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chitect"/>
              </a:rPr>
              <a:t>Point of 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Point of View means how the story is being told.   Whose ‘voice’ are you hear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three main types of POV used in short stories.  Each of them can change the story entire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Narrative / 3</a:t>
            </a:r>
            <a:r>
              <a:rPr b="0" i="1" lang="en-US" sz="4400" spc="-1" strike="noStrike" baseline="30000">
                <a:solidFill>
                  <a:srgbClr val="e3e3ff"/>
                </a:solidFill>
                <a:latin typeface="Architect"/>
              </a:rPr>
              <a:t>rd</a:t>
            </a: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 Per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by an ‘outside’ voice looking down on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Narrat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Every Who down in Whoville liked Christmas a lot.  But the Grinch…aah the Grinch did not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First Per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by a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Cindy L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Santa gave me a drink of water last night, then took all my presents!  I must admit.  I’m disappointed.  I think I’ll sing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chitect"/>
              </a:rPr>
              <a:t>Stream of Though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story is told as if you are in the mind of the main character…oooo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Grin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Man…every year it’s the same thing!  I HATE that song!  I’ve got to…hey, I have no pants!  Oh, they are SO losing Christ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chitect"/>
              </a:rPr>
              <a:t>Charac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two main types of character in short stories.  The main character 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protagonist.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 All the action in the story revolves around her / h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character that creates a conflict for the protagonist is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antagon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Script MT Bold"/>
              </a:rPr>
              <a:t>And now…time to work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31:36Z</dcterms:created>
  <dc:creator>Administrator</dc:creator>
  <dc:description/>
  <dc:language>en-US</dc:language>
  <cp:lastModifiedBy>Administrator</cp:lastModifiedBy>
  <dcterms:modified xsi:type="dcterms:W3CDTF">2007-01-08T14:43:25Z</dcterms:modified>
  <cp:revision>9</cp:revision>
  <dc:subject/>
  <dc:title>Short Story Terms and Notes</dc:title>
</cp:coreProperties>
</file>